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71DC-77FB-4A58-A1F9-C2AC9AF3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012-338B-47B5-A1DE-AAAE286A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B22D-3C28-45F7-B401-B02F0296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382-C0D7-46D9-9818-13FD4123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8BB0-3C3E-478E-8131-E841ABF8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8387-4BAF-441C-8FC2-33D7AF26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4B50-D32A-43A4-A677-CADDF198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72D4-2841-4B9E-9724-A8CF1CDC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4ABF-8249-4F00-8D2C-CA88599A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3110-5E27-42B5-AB17-41035D55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AD06-CCBF-4E8D-A6EA-793B77C3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42C-8F45-4650-A0F4-15A513BC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9652-969A-496F-B0D9-BACA0910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3B4A-2026-4C3F-B51B-17278E3D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854C-7DAB-4E1F-8A0D-592BDDA7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D1B9-7B57-45C4-81C8-E378D296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A2F9-5B3C-468C-920C-209414DC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AC9EE-2752-4F1A-9DC8-11D699E8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F3412-6EF0-42E7-8AC4-47F9B9E3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EA38C-369D-4F34-867F-10A26639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62DAD-F870-48FB-A257-2026A65C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591F-A716-4F30-AD86-3A5F50A0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371-8FDA-46D9-8C33-A70EB746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0D627-97A8-4BDF-B1C9-4A8CB05A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3C89B-5D67-4704-AE84-D2920385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D5EFF-1419-4122-91D2-C680B03E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2B917-7DB2-42E0-BF94-28C98990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97E94-53B0-44C7-9278-7F05AB8D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FC045-EC95-4AB5-9C06-7BF2B120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F540C-5667-4366-82A7-87FCA399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6E2FD-4B7C-452C-9C32-B410A5C8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C93BD-C5D6-46B1-88EE-02F441FE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0B44F-CF84-4AB7-A7C7-B0A5F9E1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BD3-FBFC-416F-ADE6-5E348C04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28336-E5F8-4E34-99FE-DBE65A50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579E4-B2EA-4A6D-9CFA-2B14414E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E6D56-3875-49C9-84AA-473616BF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1E066-03F3-448D-9B1E-464336B5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EBF76-0465-4137-8DF3-751639EE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ED7B6-2DB6-4584-959D-2A93B0EA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9249D-64F0-450A-9E1D-EC67584F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E47AC-FEA2-4586-B1CF-18184B72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6A0F3-678F-418C-8EAE-A64BFCF0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6BC5E-B2F7-473C-AA21-44B0DAAE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66C-0C37-4360-86CF-95E2FA58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6CC35-52C7-4A31-A310-28C465EE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7D46D-6194-4640-BE08-4F699292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2AE62-35B1-489B-8A6C-692619B4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160C0-12A6-4438-9C93-E2718527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C543B-E022-4280-BD97-F9D30123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5AA49-2C7A-49CF-B993-EC768247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61C4C-BB7A-4E35-B180-B35FE3B2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C7EC5-2253-4347-BEB5-F7D1FE8F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EF190-25B5-49B6-B3E4-481D47E2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6A48E-4CA1-4F2B-AD1A-873EAF03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CE43-6921-45C4-9394-37BB579A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7D5C9-1FCC-424B-A561-17A3B970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5DC96-B967-4889-8393-20521BB7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86C66-6B45-4461-BD21-0C6E398B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557CD-39A0-41A3-A20E-D7353688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B0F5D-8E09-4217-8D1B-903A1327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F3448-31E6-4CB6-823F-F0E58348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E8743-F3CA-49D9-A288-60ED24B8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C1DC4-9B72-42EA-971E-19E12702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82803-7962-46E5-AFC0-443E34FB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9C2F1-76CA-478A-99AB-D6585507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3486-EBA6-4AD7-AC14-8C882E70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2C7F4-F5DD-4D2D-8518-65CAFC83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83940-7B3C-45D0-8710-B2C51183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CDD28-D29C-406C-AE2D-F3E50283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DA87D-CACD-4187-B22A-6B7280D4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97921-6EF5-47A3-8014-214B77AB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AFB18-9A1B-487E-A5E4-08091D19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76FC7-8002-48A7-B225-359A89E7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D61D6-261B-464C-B7A4-D62469CB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23A64-DABF-40C0-B0BB-C458FF83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86DA9-19CC-41EF-8FCA-DF0AD01A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91C-EFCC-49FD-AA1D-F9B63C4E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08AB0-4736-4DD7-B594-CBD1F51D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D2B01-99A3-4BAC-B393-9EB1831E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7CC04-EDBF-495C-A1A4-9A986FC5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7CA13-0A7A-4010-BFDA-C05C3E4E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DC187-A327-42D4-901B-E5AD83C9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6AED7-837E-405D-AB0C-D0951755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7AB14-4CE2-4050-A63F-17F454BC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E9707-684D-4275-82D8-DB3913F4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B129E-65B5-44FD-A6F7-D6D19BC3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DA968-F5B0-4E0A-A8AA-D9A5466D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0F8-5715-41B3-9962-DD69B89F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77557-144B-4FC4-8717-1C898E12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D0598-6E35-478A-A556-4B89B527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DF15C-C27C-48DB-A55F-55B21334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CCC88-AA23-4AF0-AA20-6C06F62A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A1608-1C0E-4466-BDD3-D8C0990C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E2A37-B08D-4852-A81C-CC08C9F5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AA4BC-D667-4C61-AB6B-FD0E83C5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9B76-1332-49B0-B13E-B8EFABAE6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253A-E964-4D25-A1F3-CDFE129A62B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862F-E3FD-45DC-86F9-8607A2F42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7533-AF98-454A-AE03-5F8B36D3B9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6A78-FC78-4971-8E18-7C2628E6F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F985-1246-41EF-944F-752A7E90C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4A28-93B0-42A4-B952-7BC5C4B9E69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B31B-FAED-4ABC-AAAF-6E7D9A0C044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mailto:rfardad@highline.edu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622440"/>
            <a:ext cx="8607600" cy="162720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2728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ultiple-choice questions that focus on deep conceptual understandings and finding sticky points presented in class with the follow procedur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ost a question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Give students about one minute to select a solution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Get the class to signal their choices at onc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Give the students a chance to discuss their choice in a group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ake a second vot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Direct them.  If needed repeat steps 4 and 5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 version of a group quiz (Read/Confer/Write) in three step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51444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AD and develop strategies of how to solve (no writing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51444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NFERENCE and discuss the strategies in groups of 3 or 4 (no writing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51444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RITE up the solutio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ead ahead and as admission ticket to the next class complete the following and turn-in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51444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 a sentence or two describe the big idea(s) of the sectio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51444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is the easiest part(s) and doesn’t need further discussion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51444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problem or idea needs more focu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Using the web base programs for HW such as WebAssign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ndividual/ Group projects that get feedbacks before the due date (just like an English paper!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utline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ough draft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nal pap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Grading a traditional test using the following steps to make this assessment a learning opportunity. 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971640" indent="-4572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Grade the test and mark each question with the following.  No partial credit or feedback needed at this time. 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entury Gothic"/>
              </a:rPr>
              <a:t>√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(essentially correct-full credit);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entury Gothic"/>
              </a:rPr>
              <a:t>?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 (some correct reasoning but not complete or a few key errors-half credit);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entury Gothic"/>
              </a:rPr>
              <a:t>X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 (significant errors-no credit). 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lvl="1" marL="971640" indent="-4572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Return to students and inform them of the two-step rewrite for extra credit. 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971640" indent="-4572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omment on the original version on which they wrote error analysis, thoughts and questions in red. 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971640" indent="-4572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Grade the very carefully written redo of the test. 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97164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52560" indent="-5144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f you are teaching Math 81/91 please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236600" indent="-51444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Keep a record of CATs you use each quarter (type and count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236600" indent="-51444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rward any concept test questions you create to </a:t>
            </a: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rfardad@highline.edu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r post on wiki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236600" indent="-514440">
              <a:spcBef>
                <a:spcPts val="601"/>
              </a:spcBef>
              <a:buClr>
                <a:srgbClr val="ff388c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hare your experiences with everyone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34812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3733920"/>
            <a:ext cx="8229600" cy="27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1:28:52Z</dcterms:created>
  <dc:creator>Administrator</dc:creator>
  <dc:description/>
  <dc:language>en-US</dc:language>
  <cp:lastModifiedBy>hburn</cp:lastModifiedBy>
  <dcterms:modified xsi:type="dcterms:W3CDTF">2010-09-28T22:46:06Z</dcterms:modified>
  <cp:revision>7</cp:revision>
  <dc:subject/>
  <dc:title>CATs</dc:title>
</cp:coreProperties>
</file>